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F7544-30FA-4A9B-B759-990A08DC83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need to bring their compu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DACBF-C635-4C88-8F75-3952266A2EA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9EC4F-8227-4349-B3C4-B4022E4BFAE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option would they like to cover in dept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ra/whole te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F1E1-D6A5-47E9-A16D-D06A53C2760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70505-1D4D-4C8C-8E68-C818B191B13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FD1B5-1061-4666-B466-2889D8B1B14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2EF23-927A-4701-AD14-F3F4E725B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9FC05-F740-4B56-9ED3-3EC2B44EF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2EB20-FE8E-4965-9A7C-3B682A227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76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08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76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08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AF1C9-42FD-4202-B65F-727F56A38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5DCB6-4E8B-43A7-93DC-BE0B9E5F1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FC81C-4803-4A1B-B2C1-07058B6DA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AB295-9E5E-45EE-8937-EB2B9066F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103A5-FE5D-4201-BF1A-AB89539CB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1544760"/>
            <a:ext cx="731520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AE6B9-AB73-47C1-90F7-E3E724E21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2BF10-06D9-4BE0-9099-981A8837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CD538-3437-45EB-8DCB-91A6518C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D575A-1B10-4F7E-AA68-5A1B5DEB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8435880" y="573120"/>
            <a:ext cx="8568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8569440" y="573120"/>
            <a:ext cx="57600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9144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06600" y="549360"/>
            <a:ext cx="1189080" cy="2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314840" y="549360"/>
            <a:ext cx="939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1E357-B344-42D9-A528-D003A40FD05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6008760" y="855720"/>
            <a:ext cx="22464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lincolnwtl.wikispaces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516040"/>
            <a:ext cx="7315200" cy="259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Writing to Learn</a:t>
            </a:r>
            <a:br>
              <a:rPr sz="4000"/>
            </a:b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Lincoln HS </a:t>
            </a:r>
            <a:br>
              <a:rPr sz="4000"/>
            </a:b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Small Group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14400" y="5167080"/>
            <a:ext cx="731520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ril 24, 20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Lincoln Write to Learn Wiki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14400" y="1371600"/>
            <a:ext cx="73152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7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in Wik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75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6187e3"/>
                </a:solidFill>
                <a:uFillTx/>
                <a:latin typeface="Arial"/>
                <a:hlinkClick r:id="rId1"/>
              </a:rPr>
              <a:t>http://lincolnwtl.wikispaces.com/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ck out the various s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Read and Reflect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914400" y="1828800"/>
            <a:ext cx="73152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7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 handout from Angela Peery’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riting Mat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75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at is the main idea of this handout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75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at implications does this reading have on your classroom and why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066320" y="1752480"/>
            <a:ext cx="3365640" cy="47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8600"/>
                </a:solidFill>
                <a:uFillTx/>
                <a:latin typeface="Arial"/>
              </a:rPr>
              <a:t>Option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876560" y="1752480"/>
            <a:ext cx="3362040" cy="47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8600"/>
                </a:solidFill>
                <a:uFillTx/>
                <a:latin typeface="Arial"/>
              </a:rPr>
              <a:t>Option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title"/>
          </p:nvPr>
        </p:nvSpPr>
        <p:spPr>
          <a:xfrm>
            <a:off x="990720" y="6094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600"/>
                </a:solidFill>
                <a:latin typeface="Arial"/>
              </a:rPr>
              <a:t>The plus, check, minus system of grading</a:t>
            </a:r>
            <a:endParaRPr b="0" lang="en-US" sz="4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14400" y="2286000"/>
            <a:ext cx="3565440" cy="40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7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rally, what are our expectations for plus, check, minus work/wri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81080" y="2286000"/>
            <a:ext cx="3567240" cy="40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7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 of content area formative assessments with specific plus, check, minus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8600"/>
                </a:solidFill>
                <a:latin typeface="Arial"/>
              </a:rPr>
              <a:t>Generate Ideas for your Content</a:t>
            </a:r>
            <a:endParaRPr b="0" lang="en-US" sz="36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914400" y="1828800"/>
            <a:ext cx="73152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7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some meaningful writing opportunities I can create for my students?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expectations go along with those writings for plus, check, minu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For next time…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14400" y="1905120"/>
            <a:ext cx="731520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7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1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ng an example of a meaningful writing prompt/student work used for plus, check, minus gr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4:23:53Z</dcterms:created>
  <dc:creator>Curto, Sara</dc:creator>
  <dc:description/>
  <dc:language>en-US</dc:language>
  <cp:lastModifiedBy>Curto, Sara</cp:lastModifiedBy>
  <dcterms:modified xsi:type="dcterms:W3CDTF">2012-04-09T17:44:00Z</dcterms:modified>
  <cp:revision>14</cp:revision>
  <dc:subject/>
  <dc:title>Writing to Learn Lincoln HS  Small Group</dc:title>
</cp:coreProperties>
</file>